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4790-1141-455C-9A2F-4067D268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07C4-C90B-4A58-9C50-C9D19B41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BA6-51BD-4495-ABAF-D27A60C0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39D1-2E7D-4CD0-8EE0-74BE3D70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7CE-5976-4FAF-A894-7A669688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D09E-A93D-4DBE-9D2F-EA1D2DAE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7AC-C4B7-474E-99BC-1B7CAD9B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7842-167B-462E-83A8-9F1202BF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D8F8-9DDC-4CAC-8C71-5B8425E2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38A-0B74-4CC5-859B-009F2FD0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A1FE-FC98-4740-A4EC-47E8F073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A2A0-1DFE-4AC2-81EE-9C8BF8DF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B86B-4882-4E25-AB46-6C6320DEE5E4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11239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 Jie G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5493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PM Kheng 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HW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Xin Juan S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SW Yang Yong Qi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48704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PM Zhang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86800" y="148284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 /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0080" y="1463760"/>
            <a:ext cx="25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Aarlborg HW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3520" y="1268280"/>
            <a:ext cx="2027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/Shanghai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 Project Team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"/>
          <p:cNvSpPr/>
          <p:nvPr/>
        </p:nvSpPr>
        <p:spPr>
          <a:xfrm>
            <a:off x="170640" y="80964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tatus 21 Feb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358128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67676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05440" y="3686040"/>
            <a:ext cx="0" cy="34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48200" y="36766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5332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61048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552840"/>
            <a:ext cx="0" cy="11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840" y="4676760"/>
            <a:ext cx="33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784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0960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7640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2896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0960" y="1924200"/>
            <a:ext cx="0" cy="77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5720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6560" y="2705040"/>
            <a:ext cx="822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9476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OM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. Niel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78480" y="3941640"/>
            <a:ext cx="79200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CM3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K. Hil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27620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762360" y="269568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066760" y="269568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145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5813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3888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24852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SO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.L. Thom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44760" y="2957400"/>
            <a:ext cx="79236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SW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Yang Y.Q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8588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QM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T. Bartel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Sonderga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2957400"/>
            <a:ext cx="79200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M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. P. Niel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79960" y="2957400"/>
            <a:ext cx="79200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i Y.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ei X.K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1480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E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. Svend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43520" y="2967120"/>
            <a:ext cx="792360" cy="63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W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E. R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0120" y="2957400"/>
            <a:ext cx="79200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CM/IM/DL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Ha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06752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85808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86961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84840" y="2967120"/>
            <a:ext cx="792360" cy="63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GRM R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Spri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10320" y="2967120"/>
            <a:ext cx="792360" cy="63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D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Maierho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19960" y="2967120"/>
            <a:ext cx="792360" cy="63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I2P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E. R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0440" y="394164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CM1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J. Rie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91040" y="2705040"/>
            <a:ext cx="0" cy="12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89640" y="3941640"/>
            <a:ext cx="79200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QA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u X.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95720" y="3686040"/>
            <a:ext cx="17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36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ure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. Burk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22320" y="4888080"/>
            <a:ext cx="75564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1 /H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el. SW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44560" y="4888080"/>
            <a:ext cx="75564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rotoco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ack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6716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equirement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uang Q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5600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M-P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a Y.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488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0084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0552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3868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F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. Bram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2752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H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aseban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F.B. Krist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P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. B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0556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A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B.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Krist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6440" y="1541520"/>
            <a:ext cx="118116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oh K.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72080" y="1598760"/>
            <a:ext cx="971640" cy="563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-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.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968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-T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ong X.Y.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.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0492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in Y.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5252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PM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Zhang 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72280" y="5865840"/>
            <a:ext cx="644400" cy="173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A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75520" y="6122880"/>
            <a:ext cx="644400" cy="17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BE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69040" y="6380280"/>
            <a:ext cx="644400" cy="172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KLF / M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62760" y="722160"/>
            <a:ext cx="971640" cy="5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Key Customer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. Bar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10360" y="722160"/>
            <a:ext cx="971640" cy="5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. Lut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9556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488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7512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60800" y="5891040"/>
            <a:ext cx="839880" cy="177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35600" y="5888160"/>
            <a:ext cx="1362240" cy="188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10320" y="532764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69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75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03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Selma Samrowski</cp:lastModifiedBy>
  <dcterms:modified xsi:type="dcterms:W3CDTF">2006-02-21T17:27:03Z</dcterms:modified>
  <cp:revision>170</cp:revision>
  <dc:subject/>
  <dc:title>PowerPoint</dc:title>
</cp:coreProperties>
</file>